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9B9-633D-474A-8E58-246E9F69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6D0-5458-4E2A-AF60-111B0C30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816-50FD-4B26-A7D1-19DFEACB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B9E-535D-40E9-9B10-0694C0A9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10D-D0EC-4C16-A77A-C2B4FCFD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695-A545-4DD5-B119-45738F0B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866-A01F-4246-9990-823C27F8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D1A-085D-45D5-9DB0-A7F4A098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6C4-9D77-4277-B800-D5CF9A9A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B01-AE9A-4F02-B394-DD22AB0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17B-99F2-4CF1-B994-E299296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3CB-BA68-4BED-9DF7-4E5CC7A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206F-C658-4CCD-AC56-0B7E5494B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of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 Chapters 15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ompromise of 1850 / Election of 1852 Pages 492-50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ompromise of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lay-Webster vs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ssues /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Election of 18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ndidates /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ierce’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stend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sas-Nebraska A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ges 505- 5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nsas – Nebraska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publican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, what,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ection of 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red Scott / Lincoln-Dougla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ages 511-5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ed Scot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ash of 1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ncoln vs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reeport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ise and fall of Joh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1860 Election / End of the Union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Pages 515-5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litical Part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itutional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ion of 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ittenden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ession/Border St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30-5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Shot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Bord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he Comba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1-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lellan vs.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et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t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Ironcl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ancipation / Life of the Soldi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6-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cipation or Procla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of the Sold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of African-American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experiences of all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Demo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e Turns/End of the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55-5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Gettysbur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ecumseh Sh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/ Impacts of Tota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rrender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3:16:14Z</dcterms:created>
  <dc:creator>School District U46</dc:creator>
  <dc:description/>
  <dc:language>en-US</dc:language>
  <cp:lastModifiedBy>School District U46</cp:lastModifiedBy>
  <dcterms:modified xsi:type="dcterms:W3CDTF">2010-11-04T13:16:34Z</dcterms:modified>
  <cp:revision>1</cp:revision>
  <dc:subject/>
  <dc:title>Coming of the Civil War</dc:title>
</cp:coreProperties>
</file>